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854-AC3E-40CA-AE02-D37F35CA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161-B4C0-4BBE-A3A1-19EFF720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E0A-6BE9-43AE-934E-D8107FCF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EAD-F5F9-42A9-8827-70ECA389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D3C-8E98-4C72-AF8E-01AC840D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776-9547-424D-AA38-7B412CE6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DD9-C42F-4523-BB8D-A7A85A70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B38-8A11-4C82-8F3F-00147012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34B-040B-470C-827D-902F1694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C68-4E2A-4A55-901A-F49B3A20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583-3EBF-425E-B14D-6377447F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50B-72E7-49ED-A78D-E4E3205D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0447-C145-4CD8-9EB0-E2472A42B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3320" y="290520"/>
            <a:ext cx="406692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6840" y="4865760"/>
            <a:ext cx="406548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3520" y="290520"/>
            <a:ext cx="406728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3520" y="4770360"/>
            <a:ext cx="406584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5920" y="115920"/>
            <a:ext cx="304956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MV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C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CCLCCV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DXXX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L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CCXC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45000" y="108000"/>
            <a:ext cx="304956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MV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C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CCLCCV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DXXX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L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CCXC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5920" y="4537080"/>
            <a:ext cx="304956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MV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C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CCLCCV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DXXX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L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CCXC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45000" y="4529160"/>
            <a:ext cx="304956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be el número ro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MV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C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CCLCCV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DXXX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L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CCXC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15920" y="216000"/>
            <a:ext cx="6697800" cy="2842920"/>
            <a:chOff x="115920" y="216000"/>
            <a:chExt cx="6697800" cy="2842920"/>
          </a:xfrm>
        </p:grpSpPr>
        <p:grpSp>
          <p:nvGrpSpPr>
            <p:cNvPr id="50" name=""/>
            <p:cNvGrpSpPr/>
            <p:nvPr/>
          </p:nvGrpSpPr>
          <p:grpSpPr>
            <a:xfrm>
              <a:off x="2997360" y="216000"/>
              <a:ext cx="836280" cy="2013120"/>
              <a:chOff x="2997360" y="216000"/>
              <a:chExt cx="836280" cy="2013120"/>
            </a:xfrm>
          </p:grpSpPr>
          <p:sp>
            <p:nvSpPr>
              <p:cNvPr id="51" name=""/>
              <p:cNvSpPr/>
              <p:nvPr/>
            </p:nvSpPr>
            <p:spPr>
              <a:xfrm>
                <a:off x="2997360" y="216000"/>
                <a:ext cx="83628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97360" y="1197360"/>
                <a:ext cx="81972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977080" y="216000"/>
              <a:ext cx="836640" cy="2013120"/>
              <a:chOff x="5977080" y="216000"/>
              <a:chExt cx="836640" cy="2013120"/>
            </a:xfrm>
          </p:grpSpPr>
          <p:sp>
            <p:nvSpPr>
              <p:cNvPr id="54" name=""/>
              <p:cNvSpPr/>
              <p:nvPr/>
            </p:nvSpPr>
            <p:spPr>
              <a:xfrm>
                <a:off x="5977080" y="21600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977080" y="119736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040360" y="216000"/>
              <a:ext cx="836640" cy="2013120"/>
              <a:chOff x="5040360" y="216000"/>
              <a:chExt cx="836640" cy="2013120"/>
            </a:xfrm>
          </p:grpSpPr>
          <p:sp>
            <p:nvSpPr>
              <p:cNvPr id="57" name=""/>
              <p:cNvSpPr/>
              <p:nvPr/>
            </p:nvSpPr>
            <p:spPr>
              <a:xfrm>
                <a:off x="5040360" y="21600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040360" y="119736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4005360" y="216000"/>
              <a:ext cx="836640" cy="2013120"/>
              <a:chOff x="4005360" y="216000"/>
              <a:chExt cx="836640" cy="2013120"/>
            </a:xfrm>
          </p:grpSpPr>
          <p:sp>
            <p:nvSpPr>
              <p:cNvPr id="60" name=""/>
              <p:cNvSpPr/>
              <p:nvPr/>
            </p:nvSpPr>
            <p:spPr>
              <a:xfrm>
                <a:off x="4005360" y="21600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005360" y="119736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060640" y="216000"/>
              <a:ext cx="836640" cy="2013120"/>
              <a:chOff x="2060640" y="216000"/>
              <a:chExt cx="836640" cy="2013120"/>
            </a:xfrm>
          </p:grpSpPr>
          <p:sp>
            <p:nvSpPr>
              <p:cNvPr id="63" name=""/>
              <p:cNvSpPr/>
              <p:nvPr/>
            </p:nvSpPr>
            <p:spPr>
              <a:xfrm>
                <a:off x="2060640" y="21600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60640" y="119736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052640" y="279000"/>
              <a:ext cx="836640" cy="2013480"/>
              <a:chOff x="1052640" y="279000"/>
              <a:chExt cx="836640" cy="2013480"/>
            </a:xfrm>
          </p:grpSpPr>
          <p:sp>
            <p:nvSpPr>
              <p:cNvPr id="66" name=""/>
              <p:cNvSpPr/>
              <p:nvPr/>
            </p:nvSpPr>
            <p:spPr>
              <a:xfrm>
                <a:off x="1052640" y="279000"/>
                <a:ext cx="836640" cy="2013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052640" y="126036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115920" y="246960"/>
              <a:ext cx="836640" cy="2013120"/>
              <a:chOff x="115920" y="246960"/>
              <a:chExt cx="836640" cy="2013120"/>
            </a:xfrm>
          </p:grpSpPr>
          <p:sp>
            <p:nvSpPr>
              <p:cNvPr id="69" name=""/>
              <p:cNvSpPr/>
              <p:nvPr/>
            </p:nvSpPr>
            <p:spPr>
              <a:xfrm>
                <a:off x="115920" y="24696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5920" y="122832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216000" y="2547720"/>
              <a:ext cx="54900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19640" y="254772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84720" y="254772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75280" y="2547720"/>
              <a:ext cx="54900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41720" y="254772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32000" y="254772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24000" y="254772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15920" y="3203640"/>
            <a:ext cx="6697800" cy="2842920"/>
            <a:chOff x="115920" y="3203640"/>
            <a:chExt cx="6697800" cy="2842920"/>
          </a:xfrm>
        </p:grpSpPr>
        <p:grpSp>
          <p:nvGrpSpPr>
            <p:cNvPr id="79" name=""/>
            <p:cNvGrpSpPr/>
            <p:nvPr/>
          </p:nvGrpSpPr>
          <p:grpSpPr>
            <a:xfrm>
              <a:off x="2997360" y="3203640"/>
              <a:ext cx="836280" cy="2013120"/>
              <a:chOff x="2997360" y="3203640"/>
              <a:chExt cx="836280" cy="2013120"/>
            </a:xfrm>
          </p:grpSpPr>
          <p:sp>
            <p:nvSpPr>
              <p:cNvPr id="80" name=""/>
              <p:cNvSpPr/>
              <p:nvPr/>
            </p:nvSpPr>
            <p:spPr>
              <a:xfrm>
                <a:off x="2997360" y="3203640"/>
                <a:ext cx="83628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97360" y="4185000"/>
                <a:ext cx="81972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977080" y="3203640"/>
              <a:ext cx="836640" cy="2013120"/>
              <a:chOff x="5977080" y="3203640"/>
              <a:chExt cx="836640" cy="2013120"/>
            </a:xfrm>
          </p:grpSpPr>
          <p:sp>
            <p:nvSpPr>
              <p:cNvPr id="83" name=""/>
              <p:cNvSpPr/>
              <p:nvPr/>
            </p:nvSpPr>
            <p:spPr>
              <a:xfrm>
                <a:off x="5977080" y="320364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77080" y="418500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5040360" y="3203640"/>
              <a:ext cx="836640" cy="2013120"/>
              <a:chOff x="5040360" y="3203640"/>
              <a:chExt cx="836640" cy="2013120"/>
            </a:xfrm>
          </p:grpSpPr>
          <p:sp>
            <p:nvSpPr>
              <p:cNvPr id="86" name=""/>
              <p:cNvSpPr/>
              <p:nvPr/>
            </p:nvSpPr>
            <p:spPr>
              <a:xfrm>
                <a:off x="5040360" y="320364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40360" y="418500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005360" y="3203640"/>
              <a:ext cx="836640" cy="2013120"/>
              <a:chOff x="4005360" y="3203640"/>
              <a:chExt cx="836640" cy="2013120"/>
            </a:xfrm>
          </p:grpSpPr>
          <p:sp>
            <p:nvSpPr>
              <p:cNvPr id="89" name=""/>
              <p:cNvSpPr/>
              <p:nvPr/>
            </p:nvSpPr>
            <p:spPr>
              <a:xfrm>
                <a:off x="4005360" y="320364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05360" y="418500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060640" y="3203640"/>
              <a:ext cx="836640" cy="2013120"/>
              <a:chOff x="2060640" y="3203640"/>
              <a:chExt cx="836640" cy="2013120"/>
            </a:xfrm>
          </p:grpSpPr>
          <p:sp>
            <p:nvSpPr>
              <p:cNvPr id="92" name=""/>
              <p:cNvSpPr/>
              <p:nvPr/>
            </p:nvSpPr>
            <p:spPr>
              <a:xfrm>
                <a:off x="2060640" y="320364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60640" y="418500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052640" y="3266640"/>
              <a:ext cx="836640" cy="2013480"/>
              <a:chOff x="1052640" y="3266640"/>
              <a:chExt cx="836640" cy="2013480"/>
            </a:xfrm>
          </p:grpSpPr>
          <p:sp>
            <p:nvSpPr>
              <p:cNvPr id="95" name=""/>
              <p:cNvSpPr/>
              <p:nvPr/>
            </p:nvSpPr>
            <p:spPr>
              <a:xfrm>
                <a:off x="1052640" y="3266640"/>
                <a:ext cx="836640" cy="2013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52640" y="424800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15920" y="3234600"/>
              <a:ext cx="836640" cy="2013120"/>
              <a:chOff x="115920" y="3234600"/>
              <a:chExt cx="836640" cy="2013120"/>
            </a:xfrm>
          </p:grpSpPr>
          <p:sp>
            <p:nvSpPr>
              <p:cNvPr id="98" name=""/>
              <p:cNvSpPr/>
              <p:nvPr/>
            </p:nvSpPr>
            <p:spPr>
              <a:xfrm>
                <a:off x="115920" y="323460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5920" y="421596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16000" y="5535360"/>
              <a:ext cx="54900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19640" y="553536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4720" y="553536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5280" y="5535360"/>
              <a:ext cx="54900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41720" y="553536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32000" y="553536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24000" y="553536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15920" y="6192720"/>
            <a:ext cx="6697800" cy="2842920"/>
            <a:chOff x="115920" y="6192720"/>
            <a:chExt cx="6697800" cy="2842920"/>
          </a:xfrm>
        </p:grpSpPr>
        <p:grpSp>
          <p:nvGrpSpPr>
            <p:cNvPr id="108" name=""/>
            <p:cNvGrpSpPr/>
            <p:nvPr/>
          </p:nvGrpSpPr>
          <p:grpSpPr>
            <a:xfrm>
              <a:off x="2997360" y="6192720"/>
              <a:ext cx="836280" cy="2013120"/>
              <a:chOff x="2997360" y="6192720"/>
              <a:chExt cx="836280" cy="2013120"/>
            </a:xfrm>
          </p:grpSpPr>
          <p:sp>
            <p:nvSpPr>
              <p:cNvPr id="109" name=""/>
              <p:cNvSpPr/>
              <p:nvPr/>
            </p:nvSpPr>
            <p:spPr>
              <a:xfrm>
                <a:off x="2997360" y="6192720"/>
                <a:ext cx="83628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97360" y="7174080"/>
                <a:ext cx="81972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977080" y="6192720"/>
              <a:ext cx="836640" cy="2013120"/>
              <a:chOff x="5977080" y="6192720"/>
              <a:chExt cx="836640" cy="2013120"/>
            </a:xfrm>
          </p:grpSpPr>
          <p:sp>
            <p:nvSpPr>
              <p:cNvPr id="112" name=""/>
              <p:cNvSpPr/>
              <p:nvPr/>
            </p:nvSpPr>
            <p:spPr>
              <a:xfrm>
                <a:off x="5977080" y="619272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977080" y="717408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040360" y="6192720"/>
              <a:ext cx="836640" cy="2013120"/>
              <a:chOff x="5040360" y="6192720"/>
              <a:chExt cx="836640" cy="2013120"/>
            </a:xfrm>
          </p:grpSpPr>
          <p:sp>
            <p:nvSpPr>
              <p:cNvPr id="115" name=""/>
              <p:cNvSpPr/>
              <p:nvPr/>
            </p:nvSpPr>
            <p:spPr>
              <a:xfrm>
                <a:off x="5040360" y="619272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0360" y="717408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005360" y="6192720"/>
              <a:ext cx="836640" cy="2013120"/>
              <a:chOff x="4005360" y="6192720"/>
              <a:chExt cx="836640" cy="2013120"/>
            </a:xfrm>
          </p:grpSpPr>
          <p:sp>
            <p:nvSpPr>
              <p:cNvPr id="118" name=""/>
              <p:cNvSpPr/>
              <p:nvPr/>
            </p:nvSpPr>
            <p:spPr>
              <a:xfrm>
                <a:off x="4005360" y="619272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05360" y="717408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060640" y="6192720"/>
              <a:ext cx="836640" cy="2013120"/>
              <a:chOff x="2060640" y="6192720"/>
              <a:chExt cx="836640" cy="2013120"/>
            </a:xfrm>
          </p:grpSpPr>
          <p:sp>
            <p:nvSpPr>
              <p:cNvPr id="121" name=""/>
              <p:cNvSpPr/>
              <p:nvPr/>
            </p:nvSpPr>
            <p:spPr>
              <a:xfrm>
                <a:off x="2060640" y="619272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60640" y="717408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052640" y="6255720"/>
              <a:ext cx="836640" cy="2013480"/>
              <a:chOff x="1052640" y="6255720"/>
              <a:chExt cx="836640" cy="2013480"/>
            </a:xfrm>
          </p:grpSpPr>
          <p:sp>
            <p:nvSpPr>
              <p:cNvPr id="124" name=""/>
              <p:cNvSpPr/>
              <p:nvPr/>
            </p:nvSpPr>
            <p:spPr>
              <a:xfrm>
                <a:off x="1052640" y="6255720"/>
                <a:ext cx="836640" cy="2013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052640" y="723708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115920" y="6223680"/>
              <a:ext cx="836640" cy="2013120"/>
              <a:chOff x="115920" y="6223680"/>
              <a:chExt cx="836640" cy="2013120"/>
            </a:xfrm>
          </p:grpSpPr>
          <p:sp>
            <p:nvSpPr>
              <p:cNvPr id="127" name=""/>
              <p:cNvSpPr/>
              <p:nvPr/>
            </p:nvSpPr>
            <p:spPr>
              <a:xfrm>
                <a:off x="115920" y="6223680"/>
                <a:ext cx="836640" cy="2013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5920" y="7205040"/>
                <a:ext cx="82008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6000" y="8524440"/>
              <a:ext cx="54900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19640" y="852444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84720" y="852444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75280" y="8524440"/>
              <a:ext cx="54900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41720" y="852444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32000" y="852444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24000" y="8524440"/>
              <a:ext cx="549360" cy="51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5:54:56Z</dcterms:created>
  <dc:creator>Usuario</dc:creator>
  <dc:description/>
  <dc:language>en-US</dc:language>
  <cp:lastModifiedBy>Usuario</cp:lastModifiedBy>
  <dcterms:modified xsi:type="dcterms:W3CDTF">2008-02-11T18:30:31Z</dcterms:modified>
  <cp:revision>2</cp:revision>
  <dc:subject/>
  <dc:title>Diapositiva 1</dc:title>
</cp:coreProperties>
</file>